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gif" ContentType="image/gif"/>
  <Override PartName="/ppt/media/image10.gif" ContentType="image/gif"/>
  <Override PartName="/ppt/media/image1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357B0-A807-4296-A1A5-6A2F25BAE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C2F1-3DFF-4749-91F9-49E2FB3CB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D5A02-F017-4749-BC27-28A241ED6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A13D8-D1BC-49D8-BAB1-D41298F5B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62ADF-895D-4409-8F64-359713BD4C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EE955-2043-41A2-8E58-29C5A5D32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A1928-FB22-426A-8998-389BD4808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50745-F021-4120-A509-72CC2755D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1D649-089C-4BC3-A4ED-9AE5AA849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4D4A6-D37E-45E1-9B74-B161DC3A2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5795-5DAC-4906-9FB2-D3F15E9AE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33EB-6E3C-4414-B032-CACE900D1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5272E-BAE5-47D3-9274-047BBF18B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8B50C-D7E9-45F8-ACF5-69087C7F0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708DB-F84C-4E82-92B4-D923A47A6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B433D-9641-4C0D-8F25-F19DF73C77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48344-8D1C-4798-8D82-446889858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5501E-8B02-475B-9DD9-39068B8DB7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88B7EC-68EF-4BBE-91A5-7CB58A50AA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9226A9-D1E9-4FD8-8308-5F9386C64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29E34-A6CE-45D7-AC64-1D6A45B514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B0AA0-8E9B-45CE-ACDB-9328B51A8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0B88C-B980-4DC0-908E-2BEE65931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B4DBD-0F9C-4206-B2CA-A5BF47968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F7CEF-29C2-461A-8674-EEBFF1FDE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82B331-9EF3-492A-92CF-123B52CE5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F969C-BCF4-45E6-B11A-2C41D5B9A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E6544-B95C-4330-855D-7B6D4F37B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225677-8551-4930-93D4-B24B4DDAF4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AE14C-3AC8-4963-A27F-06D7CCB98F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70BD15-357D-4733-9E8A-F7CAD7B863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66D13-9783-41EF-B868-681E34DA84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D268C3-D9B7-4F8E-A6FC-A2D6B1822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39E2-4AFE-499A-B6A0-595E64BD2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2B68E-44F9-4434-82F3-336EE1725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3930ED-4833-4946-90DF-FFEDFAD48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0F7D5-8F2E-48CA-9423-B4EA733A0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C2C07-DD25-4D1C-9F10-6070CFEDF0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2AFC8-3B97-4AE1-B1C1-FD43043729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21875-A01C-4064-AA8A-2E526AE57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3E413-0490-42E7-A89F-2D52F3629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D76690-CA7C-48C6-B649-92C140AE0B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1E74C8-79E5-4E4D-953B-D2FF2F9817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B75DBF-A0BE-4A39-8E14-135C4C31FC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81C89-FEFC-44C4-9475-60DC4EF7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0E79C-DC8E-4A51-96C3-2E1451DEDA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AEE8B-0EED-4EB2-93FC-E53E8EF530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BBA4B-77E5-4000-84D8-621520F71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616E9A-9CE3-4AEE-9365-4E39DE9DFB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8F421C-1988-4C72-9E63-1C0864B5A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C91489-BF3D-4C03-9F20-4269BA344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AAAF7-B08D-4803-8418-E4A8C6281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12F26-2206-4261-B1E6-5DE876472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519557-BFCD-43A6-AB72-4ECF5F1BCB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93230-AB8B-4B4A-8322-6E535103C8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84E9E-5C2C-4AC1-86E5-397FB76B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89E6BD-7053-4D08-ADD2-7DD013FAF8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A8567A-4F1B-4172-AD57-8DEC0316DC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142965-967D-49C0-AE92-296909D620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AB1BC9-E955-4582-88EB-53CAC19396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383390-0E43-4977-8463-A14C6B0BCC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9275C2-7E20-4C7E-A2F5-48B999A51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9A9A3-B0C2-4782-AE2D-E9C68DE825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D96AC-F55E-411D-988E-20D76C435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2A7545-D080-432F-B098-A1382B242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1BAD4-5A60-47F8-BD50-8279195E0F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15294-6714-45C4-BA9F-F13898DA2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72D303-40A9-48F8-A362-A605EC9087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24B7A0-2303-4441-811F-3BDAF13C26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6F94A1-60B8-4E6E-997C-802683259E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0B40C93-53D0-4A74-86A4-68448C5CB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85D033-1A9E-47BC-99BE-7D82916B48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6FCB5-FEE9-40BB-A273-C8E8DC3E25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4392D-77AD-43ED-BCF5-FD818B29B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C003F-A755-41B2-8F10-A2D4B8520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CB0F66-7FF9-414D-A497-38B0B0765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2714E4-2E2D-4762-9262-DBE2FBCD6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A2DCE-C76C-447E-B064-3194528AB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088A3B-AF22-41A6-8EAA-8A1249D13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5FFF8D-EB8E-4754-9E54-B248292A5E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9DD42F-1F37-44D7-BEFA-651E66B33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C481A9-00F6-43E9-BDA9-F1C43FBA6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8CBE4B-4432-4A4A-A76C-7F6BF1CB29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D995-76A5-42E8-A3AC-EE07B8CC9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89606-3EB1-4C23-97E7-5742985D568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Prostokąt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rostokąt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rostokąt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rostokąt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rostokąt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rostokąt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rostokąt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rostokąt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rostokąt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31AF-6D34-4DC9-BB82-AFCF2B77D2A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Dowolny kształt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Dowolny kształt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Dowolny kształt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Dowolny kształt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Dowolny kształt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Dowolny kształt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Dowolny kształt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Dowolny kształt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Dowolny kształt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Dowolny kształt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Dowolny kształt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Dowolny kształt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Dowolny kształt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Dowolny kształt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Dowolny kształt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rostokąt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rostokąt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rostokąt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rostokąt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rostokąt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rostokąt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C500-C6CA-4B5E-9D1E-7C4B4D5A252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04D4-068F-4D8F-9448-2A476C23BA3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Prostokąt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rostokąt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rostokąt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rostokąt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rostokąt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rostokąt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rostokąt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rostokąt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rostokąt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rostokąt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4164-27E2-4C29-BBD9-B53D43A5E83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0EACE-6E39-4B6E-A312-66EB12630A3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Prostokąt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rostokąt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Prostokąt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rostokąt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rostokąt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Prostokąt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Prostokąt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rostokąt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rostokąt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rostokąt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Łącznik prosty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upa 19"/>
          <p:cNvGrpSpPr/>
          <p:nvPr/>
        </p:nvGrpSpPr>
        <p:grpSpPr>
          <a:xfrm>
            <a:off x="8516880" y="1217520"/>
            <a:ext cx="128160" cy="131400"/>
            <a:chOff x="8516880" y="1217520"/>
            <a:chExt cx="128160" cy="131400"/>
          </a:xfrm>
        </p:grpSpPr>
        <p:sp>
          <p:nvSpPr>
            <p:cNvPr id="316" name="Łącznik prosty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Łącznik prosty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Łącznik prosty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upa 25"/>
          <p:cNvGrpSpPr/>
          <p:nvPr/>
        </p:nvGrpSpPr>
        <p:grpSpPr>
          <a:xfrm>
            <a:off x="8669520" y="1370160"/>
            <a:ext cx="128520" cy="131400"/>
            <a:chOff x="8669520" y="1370160"/>
            <a:chExt cx="128520" cy="131400"/>
          </a:xfrm>
        </p:grpSpPr>
        <p:sp>
          <p:nvSpPr>
            <p:cNvPr id="320" name="Łącznik prosty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Łącznik prosty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Łącznik prosty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upa 29"/>
          <p:cNvGrpSpPr/>
          <p:nvPr/>
        </p:nvGrpSpPr>
        <p:grpSpPr>
          <a:xfrm>
            <a:off x="8321760" y="1473120"/>
            <a:ext cx="128160" cy="131400"/>
            <a:chOff x="8321760" y="1473120"/>
            <a:chExt cx="128160" cy="131400"/>
          </a:xfrm>
        </p:grpSpPr>
        <p:sp>
          <p:nvSpPr>
            <p:cNvPr id="324" name="Łącznik prosty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Łącznik prosty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Łącznik prosty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9E0A-BED6-41DA-9CA2-006D0F265A7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om/imgres?imgurl=http://herokids.files.wordpress.com/2008/04/earth.jpg&amp;imgrefurl=http://allocasuarina.blogspot.com/&amp;h=324&amp;w=324&amp;sz=33&amp;tbnid=2vHbolAIr7D_6M::&amp;tbnh=118&amp;tbnw=118&amp;prev=/images%3Fq%3DEarth&amp;hl=en&amp;usg=__0nqjowiGD7wA2An-u43KhYTFx-8=&amp;sa=X&amp;oi=image_result&amp;resnum=4&amp;ct=image&amp;cd=1" TargetMode="External"/><Relationship Id="rId3" Type="http://schemas.openxmlformats.org/officeDocument/2006/relationships/image" Target="../media/image2.jpeg"/><Relationship Id="rId4" Type="http://schemas.openxmlformats.org/officeDocument/2006/relationships/hyperlink" Target="http://www.google.com/imgres?imgurl=http://www.rps.psu.edu/probing/graphics/earth2.jpg&amp;imgrefurl=http://watthead.blogspot.com/2008_04_01_archive.html&amp;h=300&amp;w=300&amp;sz=82&amp;tbnid=I1KHCb5NSOFT9M::&amp;tbnh=116&amp;tbnw=116&amp;prev=/images%3Fq%3DEarth&amp;hl=en&amp;usg=__r4OFM0PTmNjnic8_vM4uC3yHBYg=&amp;sa=X&amp;oi=image_result&amp;resnum=5&amp;ct=image&amp;cd=1" TargetMode="External"/><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oogle.com/imgres?imgurl=http://www.dta.it/gallery/immagini/moon_images/full_moon_02_2000.jpg&amp;imgrefurl=http://shine.yahoo.com/topic/behavior/&amp;h=1772&amp;w=1735&amp;sz=1407&amp;tbnid=zgjzJvc9cam6uM::&amp;tbnh=150&amp;tbnw=147&amp;prev=/images%3Fq%3Dmoon&amp;hl=en&amp;usg=__u-hWh0TkLbKk19gT37prqyTAQhk=&amp;sa=X&amp;oi=image_result&amp;resnum=3&amp;ct=image&amp;cd=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ineplanets.org/luna.html" TargetMode="External"/><Relationship Id="rId2" Type="http://schemas.openxmlformats.org/officeDocument/2006/relationships/hyperlink" Target="http://www.nineplanets.org/earth.html" TargetMode="External"/><Relationship Id="rId3" Type="http://schemas.openxmlformats.org/officeDocument/2006/relationships/hyperlink" Target="http://coolcosmos.ipac.caltech.edu/cosmic_kids/AskKids/earthname.shtml" TargetMode="External"/><Relationship Id="rId4" Type="http://schemas.openxmlformats.org/officeDocument/2006/relationships/hyperlink" Target="http://www.nineplanets.org/earth.html"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ecff"/>
        </a:solidFill>
      </p:bgPr>
    </p:bg>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39680" y="36360"/>
            <a:ext cx="5340240" cy="1341720"/>
          </a:xfrm>
          <a:prstGeom prst="rect">
            <a:avLst/>
          </a:prstGeom>
          <a:ln w="0">
            <a:noFill/>
          </a:ln>
        </p:spPr>
      </p:pic>
      <p:sp>
        <p:nvSpPr>
          <p:cNvPr id="369" name="PlaceHolder 1"/>
          <p:cNvSpPr>
            <a:spLocks noGrp="1"/>
          </p:cNvSpPr>
          <p:nvPr>
            <p:ph type="subTitle"/>
          </p:nvPr>
        </p:nvSpPr>
        <p:spPr>
          <a:xfrm>
            <a:off x="5029200" y="5486400"/>
            <a:ext cx="4114800" cy="990720"/>
          </a:xfrm>
          <a:prstGeom prst="rect">
            <a:avLst/>
          </a:prstGeom>
          <a:noFill/>
          <a:ln w="0">
            <a:noFill/>
          </a:ln>
        </p:spPr>
        <p:txBody>
          <a:bodyPr lIns="100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my Kang.</a:t>
            </a:r>
            <a:endParaRPr b="0" lang="en-US" sz="20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70" name="Text Box 4"/>
          <p:cNvSpPr/>
          <p:nvPr/>
        </p:nvSpPr>
        <p:spPr>
          <a:xfrm>
            <a:off x="228600" y="144792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lanet is Earth, the only planet we can have life and water and best sunshine.</a:t>
            </a:r>
            <a:endParaRPr b="0" lang="en-US" sz="1800" spc="-1" strike="noStrike">
              <a:solidFill>
                <a:srgbClr val="ffffff"/>
              </a:solidFill>
              <a:latin typeface="Arial"/>
            </a:endParaRPr>
          </a:p>
        </p:txBody>
      </p:sp>
      <p:pic>
        <p:nvPicPr>
          <p:cNvPr id="371" name="Picture 6" descr="http://allocasuarina.blogspot.com/">
            <a:hlinkClick r:id="rId2"/>
          </p:cNvPr>
          <p:cNvPicPr/>
          <p:nvPr/>
        </p:nvPicPr>
        <p:blipFill>
          <a:blip r:embed="rId3"/>
          <a:stretch/>
        </p:blipFill>
        <p:spPr>
          <a:xfrm>
            <a:off x="5867280" y="1295280"/>
            <a:ext cx="2133720" cy="2133720"/>
          </a:xfrm>
          <a:prstGeom prst="rect">
            <a:avLst/>
          </a:prstGeom>
          <a:ln w="0">
            <a:noFill/>
          </a:ln>
        </p:spPr>
      </p:pic>
      <p:pic>
        <p:nvPicPr>
          <p:cNvPr id="372" name="Picture 8" descr="http://watthead.blogspot.com/2008_04_01_archive.html">
            <a:hlinkClick r:id="rId4"/>
          </p:cNvPr>
          <p:cNvPicPr/>
          <p:nvPr/>
        </p:nvPicPr>
        <p:blipFill>
          <a:blip r:embed="rId5"/>
          <a:stretch/>
        </p:blipFill>
        <p:spPr>
          <a:xfrm>
            <a:off x="2133720" y="3505320"/>
            <a:ext cx="3124080" cy="3124080"/>
          </a:xfrm>
          <a:prstGeom prst="rect">
            <a:avLst/>
          </a:prstGeom>
          <a:ln w="0">
            <a:noFill/>
          </a:ln>
        </p:spPr>
      </p:pic>
      <p:pic>
        <p:nvPicPr>
          <p:cNvPr id="373" name="Strzałka w dół 6" descr=""/>
          <p:cNvPicPr/>
          <p:nvPr/>
        </p:nvPicPr>
        <p:blipFill>
          <a:blip r:embed="rId6"/>
          <a:stretch/>
        </p:blipFill>
        <p:spPr>
          <a:xfrm>
            <a:off x="5857920" y="371520"/>
            <a:ext cx="2225520" cy="701640"/>
          </a:xfrm>
          <a:prstGeom prst="rect">
            <a:avLst/>
          </a:prstGeom>
          <a:ln w="0">
            <a:noFill/>
          </a:ln>
        </p:spPr>
      </p:pic>
      <p:sp>
        <p:nvSpPr>
          <p:cNvPr id="374" name="Strzałka w prawo 7"/>
          <p:cNvSpPr/>
          <p:nvPr/>
        </p:nvSpPr>
        <p:spPr>
          <a:xfrm>
            <a:off x="1447920" y="4572000"/>
            <a:ext cx="1066680" cy="609480"/>
          </a:xfrm>
          <a:prstGeom prst="rightArrow">
            <a:avLst>
              <a:gd name="adj1" fmla="val 50000"/>
              <a:gd name="adj2" fmla="val 50001"/>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Kristen ITC"/>
              </a:rPr>
              <a:t>Put the name of the most interesting moon here</a:t>
            </a:r>
            <a:endParaRPr b="0" lang="en-US" sz="3600" spc="-1" strike="noStrike">
              <a:solidFill>
                <a:srgbClr val="c1eeff"/>
              </a:solidFill>
              <a:latin typeface="Consolas"/>
            </a:endParaRPr>
          </a:p>
        </p:txBody>
      </p:sp>
      <p:sp>
        <p:nvSpPr>
          <p:cNvPr id="399"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mass is 7.35e22 kg and it's diameter is 3476km, so it is much more smaller than Earth. It is  384,400 km from Earth. Moon has two names. It is Luna and Moon.</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400" name="Picture 5" descr="http://shine.yahoo.com/topic/behavior/">
            <a:hlinkClick r:id="rId1"/>
          </p:cNvPr>
          <p:cNvPicPr/>
          <p:nvPr/>
        </p:nvPicPr>
        <p:blipFill>
          <a:blip r:embed="rId2"/>
          <a:stretch/>
        </p:blipFill>
        <p:spPr>
          <a:xfrm>
            <a:off x="4038480" y="3048120"/>
            <a:ext cx="3124440" cy="287640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fontScale="94000"/>
          </a:bodyPr>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adley Hand ITC"/>
              </a:rPr>
              <a:t>About Science 1</a:t>
            </a:r>
            <a:endParaRPr b="0" lang="en-US" sz="24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1"/>
              </a:rPr>
              <a:t>http://www.nineplanets.org/luna.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windows.ucar.edu/tour/link=/earth/Water/overview.html&amp;edu=hig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www.nationmaster.com/encyclopedia/Moonbus-(2001-A-Space-Odyssey) </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2"/>
              </a:rPr>
              <a:t>http://www.nineplanets.org/earth.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3"/>
              </a:rPr>
              <a:t>http://coolcosmos.ipac.caltech.edu/cosmic_kids/AskKids/earthname.shtml</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adley Hand ITC"/>
                <a:hlinkClick r:id="rId4"/>
              </a:rPr>
              <a:t>http://www.nineplanets.org/earth.html</a:t>
            </a:r>
            <a:r>
              <a:rPr b="1" lang="en-US" sz="2000" spc="-1" strike="noStrike">
                <a:solidFill>
                  <a:srgbClr val="ffffff"/>
                </a:solidFill>
                <a:latin typeface="Bradley Hand ITC"/>
              </a:rPr>
              <a:t>   </a:t>
            </a:r>
            <a:r>
              <a:rPr b="1" lang="en-US" sz="2000" spc="-1" strike="noStrike">
                <a:solidFill>
                  <a:srgbClr val="ffffff"/>
                </a:solidFill>
                <a:latin typeface="Corbel"/>
              </a:rPr>
              <a:t>                                               </a:t>
            </a:r>
            <a:r>
              <a:rPr b="0" lang="pl-PL" sz="2000" spc="-1" strike="noStrike">
                <a:solidFill>
                  <a:srgbClr val="ffffff"/>
                </a:solidFill>
                <a:latin typeface="Corbel"/>
              </a:rPr>
              <a:t> </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Bradley Hand ITC"/>
              </a:rPr>
              <a:t>http://solarsystem.nasa.gov/planets/profile.cfm?Object=Eart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enchantedlearning.com/subjects/astronomy/planets/earth/</a:t>
            </a: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86280" indent="-3218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404" name=""/>
          <p:cNvSpPr txBox="1"/>
          <p:nvPr/>
        </p:nvSpPr>
        <p:spPr>
          <a:xfrm>
            <a:off x="380880" y="1600200"/>
            <a:ext cx="8229600" cy="452592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Bradley Hand ITC"/>
              </a:rPr>
              <a:t>http://solarsystem.nasa.gov/planets/profile.cfm?Object=Earth&amp;Display=Facts</a:t>
            </a: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http://www.windows.ucar.edu/tour/link=/earth/Interior_Structure/interior.html</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solarsystem.nasa.gov/planets/profile.cfm?Object=Earth&amp;Display=Fact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http://www.windows.ucar.edu/tour/link=/earth/earth.html&amp;edu=high</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Bradley Hand ITC"/>
              </a:rPr>
              <a:t>http://wiki.answers.com/Q/What_is_the_wind_speed_on_earth</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Bradley Hand ITC"/>
              </a:rPr>
              <a:t>http://solarsystem.nasa.gov/planets/profile.cfm?Object=Earth&amp;Display=Fact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000" spc="-1" strike="noStrike">
              <a:solidFill>
                <a:srgbClr val="c1eeff"/>
              </a:solidFill>
              <a:latin typeface="Consolas"/>
            </a:endParaRPr>
          </a:p>
        </p:txBody>
      </p:sp>
      <p:sp>
        <p:nvSpPr>
          <p:cNvPr id="406" name=""/>
          <p:cNvSpPr txBox="1"/>
          <p:nvPr/>
        </p:nvSpPr>
        <p:spPr>
          <a:xfrm>
            <a:off x="914400" y="175248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adley Hand ITC"/>
              </a:rPr>
              <a:t>Thank you for watching my presentation!</a:t>
            </a:r>
            <a:endParaRPr b="0" lang="en-US" sz="4400" spc="-1" strike="noStrike">
              <a:solidFill>
                <a:srgbClr val="ffffff"/>
              </a:solidFill>
              <a:latin typeface="Corbel"/>
            </a:endParaRPr>
          </a:p>
        </p:txBody>
      </p:sp>
      <p:pic>
        <p:nvPicPr>
          <p:cNvPr id="407" name="Picture 2" descr="G:\Msn Messenger\이모티콘\바이.gif"/>
          <p:cNvPicPr/>
          <p:nvPr/>
        </p:nvPicPr>
        <p:blipFill>
          <a:blip r:embed="rId1"/>
          <a:stretch/>
        </p:blipFill>
        <p:spPr>
          <a:xfrm>
            <a:off x="990720" y="3581280"/>
            <a:ext cx="2743200" cy="2743200"/>
          </a:xfrm>
          <a:prstGeom prst="rect">
            <a:avLst/>
          </a:prstGeom>
          <a:ln w="0">
            <a:noFill/>
          </a:ln>
        </p:spPr>
      </p:pic>
      <p:pic>
        <p:nvPicPr>
          <p:cNvPr id="408" name="Picture 3" descr="G:\Msn Messenger\이모티콘\sotfzz_kyakya.gif"/>
          <p:cNvPicPr/>
          <p:nvPr/>
        </p:nvPicPr>
        <p:blipFill>
          <a:blip r:embed="rId2"/>
          <a:stretch/>
        </p:blipFill>
        <p:spPr>
          <a:xfrm>
            <a:off x="3657600" y="3581280"/>
            <a:ext cx="2743200" cy="2743200"/>
          </a:xfrm>
          <a:prstGeom prst="rect">
            <a:avLst/>
          </a:prstGeom>
          <a:ln w="0">
            <a:noFill/>
          </a:ln>
        </p:spPr>
      </p:pic>
      <p:pic>
        <p:nvPicPr>
          <p:cNvPr id="409" name="Picture 7" descr="G:\Msn Messenger\이모티콘\%BD%BA%B3%D7%C0%CC%C7%C1%B9%DA%BC%F6-0508wldnjs.gif"/>
          <p:cNvPicPr/>
          <p:nvPr/>
        </p:nvPicPr>
        <p:blipFill>
          <a:blip r:embed="rId3"/>
          <a:stretch/>
        </p:blipFill>
        <p:spPr>
          <a:xfrm>
            <a:off x="6400800" y="3581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b7a01"/>
                </a:solidFill>
                <a:latin typeface="Kristen ITC"/>
              </a:rPr>
              <a:t>History of Earth.</a:t>
            </a:r>
            <a:endParaRPr b="0" lang="en-US" sz="5400" spc="-1" strike="noStrike">
              <a:solidFill>
                <a:srgbClr val="c1eeff"/>
              </a:solidFill>
              <a:latin typeface="Consolas"/>
            </a:endParaRPr>
          </a:p>
        </p:txBody>
      </p:sp>
      <p:sp>
        <p:nvSpPr>
          <p:cNvPr id="376" name=""/>
          <p:cNvSpPr txBox="1"/>
          <p:nvPr/>
        </p:nvSpPr>
        <p:spPr>
          <a:xfrm>
            <a:off x="457200" y="1600200"/>
            <a:ext cx="8305920" cy="27432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Kristen ITC"/>
              </a:rPr>
              <a:t>We don’t know when this Earth is discovered, because we are living on this planet with the lives.</a:t>
            </a:r>
            <a:endParaRPr b="0" lang="en-US" sz="1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ll of the planets, except for Earth, were named after Greek and Roman gods and goddesses. The name Earth is an English/German name which simply means the ground. It comes from the Old English words 'eor(th)e' and 'ertha'. In German it is 'erde'. The name Earth is at least 1000 years old</a:t>
            </a:r>
            <a:r>
              <a:rPr b="1"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7" name="Picture 4" descr=""/>
          <p:cNvPicPr/>
          <p:nvPr/>
        </p:nvPicPr>
        <p:blipFill>
          <a:blip r:embed="rId1"/>
          <a:stretch/>
        </p:blipFill>
        <p:spPr>
          <a:xfrm>
            <a:off x="7010280" y="4343400"/>
            <a:ext cx="1579680" cy="1262160"/>
          </a:xfrm>
          <a:prstGeom prst="rect">
            <a:avLst/>
          </a:prstGeom>
          <a:ln w="0">
            <a:noFill/>
          </a:ln>
        </p:spPr>
      </p:pic>
      <p:sp>
        <p:nvSpPr>
          <p:cNvPr id="378" name="Strzałka w prawo 4"/>
          <p:cNvSpPr/>
          <p:nvPr/>
        </p:nvSpPr>
        <p:spPr>
          <a:xfrm>
            <a:off x="6248520" y="4952880"/>
            <a:ext cx="533160" cy="304920"/>
          </a:xfrm>
          <a:prstGeom prst="rightArrow">
            <a:avLst>
              <a:gd name="adj1" fmla="val 50000"/>
              <a:gd name="adj2" fmla="val 49954"/>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ole tekstowe 5"/>
          <p:cNvSpPr/>
          <p:nvPr/>
        </p:nvSpPr>
        <p:spPr>
          <a:xfrm>
            <a:off x="4648320" y="4419720"/>
            <a:ext cx="1447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symbol of Ear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eather of Earth</a:t>
            </a:r>
            <a:endParaRPr b="0" lang="en-US" sz="4000" spc="-1" strike="noStrike">
              <a:solidFill>
                <a:srgbClr val="c1eeff"/>
              </a:solidFill>
              <a:latin typeface="Consolas"/>
            </a:endParaRPr>
          </a:p>
        </p:txBody>
      </p:sp>
      <p:sp>
        <p:nvSpPr>
          <p:cNvPr id="38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4 seasons are existing in Earth. Spring, summer, fall and winter. 4 seasons have different weather. It can be hot, warm, cold and wind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Speed of wind and Temperature Range, and other stuff</a:t>
            </a:r>
            <a:endParaRPr b="0" lang="en-US" sz="3600" spc="-1" strike="noStrike">
              <a:solidFill>
                <a:srgbClr val="c1eeff"/>
              </a:solidFill>
              <a:latin typeface="Consolas"/>
            </a:endParaRPr>
          </a:p>
        </p:txBody>
      </p:sp>
      <p:sp>
        <p:nvSpPr>
          <p:cNvPr id="383"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Wind speeds:     </a:t>
            </a:r>
            <a:r>
              <a:rPr b="0" lang="en-US" sz="2000" spc="-1" strike="noStrike">
                <a:solidFill>
                  <a:srgbClr val="ffffff"/>
                </a:solidFill>
                <a:latin typeface="Bradley Hand ITC"/>
              </a:rPr>
              <a:t>22.346 mph</a:t>
            </a:r>
            <a:r>
              <a:rPr b="1" lang="en-US" sz="2000" spc="-1" strike="noStrike">
                <a:solidFill>
                  <a:srgbClr val="ffffff"/>
                </a:solidFill>
                <a:latin typeface="Bradley Hand ITC"/>
              </a:rPr>
              <a:t> average. Temperature Ranges: English:</a:t>
            </a:r>
            <a:r>
              <a:rPr b="0" lang="en-US" sz="2000" spc="-1" strike="noStrike">
                <a:solidFill>
                  <a:srgbClr val="ffffff"/>
                </a:solidFill>
                <a:latin typeface="Bradley Hand ITC"/>
              </a:rPr>
              <a:t> -126/136 (min/max) °F</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Surface Pressure: </a:t>
            </a:r>
            <a:r>
              <a:rPr b="0" lang="pl-PL" sz="2000" spc="-1" strike="noStrike">
                <a:solidFill>
                  <a:srgbClr val="ffffff"/>
                </a:solidFill>
                <a:latin typeface="Bradley Hand ITC"/>
              </a:rPr>
              <a:t>32.041 ft/s</a:t>
            </a:r>
            <a:r>
              <a:rPr b="0" lang="pl-PL" sz="2000" spc="-1" strike="noStrike" baseline="30000">
                <a:solidFill>
                  <a:srgbClr val="ffffff"/>
                </a:solidFill>
                <a:latin typeface="Bradley Hand ITC"/>
              </a:rPr>
              <a:t>2]</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adley Hand ITC"/>
              </a:rPr>
              <a:t> </a:t>
            </a:r>
            <a:r>
              <a:rPr b="1" lang="en-US" sz="2000" spc="-1" strike="noStrike">
                <a:solidFill>
                  <a:srgbClr val="ffffff"/>
                </a:solidFill>
                <a:latin typeface="Bradley Hand ITC"/>
              </a:rPr>
              <a:t>Earth have freshwater and salty sea water.</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olar System</a:t>
            </a:r>
            <a:endParaRPr b="0" lang="en-US" sz="4000" spc="-1" strike="noStrike">
              <a:solidFill>
                <a:srgbClr val="c1eeff"/>
              </a:solidFill>
              <a:latin typeface="Consolas"/>
            </a:endParaRPr>
          </a:p>
        </p:txBody>
      </p:sp>
      <p:sp>
        <p:nvSpPr>
          <p:cNvPr id="385" name=""/>
          <p:cNvSpPr txBox="1"/>
          <p:nvPr/>
        </p:nvSpPr>
        <p:spPr>
          <a:xfrm>
            <a:off x="533520" y="1295280"/>
            <a:ext cx="822960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The order from the sun is 3</a:t>
            </a:r>
            <a:r>
              <a:rPr b="0" lang="en-US" sz="2000" spc="-1" strike="noStrike" baseline="30000">
                <a:solidFill>
                  <a:srgbClr val="ffffff"/>
                </a:solidFill>
                <a:latin typeface="Kristen ITC"/>
              </a:rPr>
              <a:t>rd</a:t>
            </a:r>
            <a:r>
              <a:rPr b="0" lang="en-US" sz="2000" spc="-1" strike="noStrike">
                <a:solidFill>
                  <a:srgbClr val="ffffff"/>
                </a:solidFill>
                <a:latin typeface="Kristen ITC"/>
              </a:rPr>
              <a:t>.</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Distance from the sun is 1 AU and </a:t>
            </a:r>
            <a:r>
              <a:rPr b="0" lang="pl-PL" sz="2000" spc="-1" strike="noStrike">
                <a:solidFill>
                  <a:srgbClr val="ffffff"/>
                </a:solidFill>
                <a:latin typeface="Kristen ITC"/>
              </a:rPr>
              <a:t>149,600,000 km</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t goes around the sun in </a:t>
            </a:r>
            <a:r>
              <a:rPr b="1" lang="en-US" sz="2000" spc="-1" strike="noStrike">
                <a:solidFill>
                  <a:srgbClr val="ffffff"/>
                </a:solidFill>
                <a:latin typeface="Kristen ITC"/>
              </a:rPr>
              <a:t>365.26 day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Length of one day is 23.93 hours.</a:t>
            </a:r>
            <a:endParaRPr b="0" lang="en-US" sz="2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86" name="Rectangle 5"/>
          <p:cNvSpPr/>
          <p:nvPr/>
        </p:nvSpPr>
        <p:spPr>
          <a:xfrm>
            <a:off x="4680" y="9720"/>
            <a:ext cx="824040" cy="231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600" spc="-1" strike="noStrike">
                <a:solidFill>
                  <a:srgbClr val="ffffff"/>
                </a:solidFill>
                <a:latin typeface="Arial"/>
              </a:rPr>
              <a:t> </a:t>
            </a:r>
            <a:endParaRPr b="0" lang="en-US" sz="14600" spc="-1" strike="noStrike">
              <a:solidFill>
                <a:srgbClr val="ffffff"/>
              </a:solidFill>
              <a:latin typeface="Arial"/>
            </a:endParaRPr>
          </a:p>
        </p:txBody>
      </p:sp>
      <p:pic>
        <p:nvPicPr>
          <p:cNvPr id="387" name="Picture 6" descr="http://www.windows.ucar.edu/images/solar_system.gif"/>
          <p:cNvPicPr/>
          <p:nvPr/>
        </p:nvPicPr>
        <p:blipFill>
          <a:blip r:embed="rId1"/>
          <a:stretch/>
        </p:blipFill>
        <p:spPr>
          <a:xfrm>
            <a:off x="2743200" y="4116240"/>
            <a:ext cx="5105520" cy="2475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Kristen ITC"/>
              </a:rPr>
              <a:t>Planet Measurements</a:t>
            </a:r>
            <a:endParaRPr b="0" lang="en-US" sz="4000" spc="-1" strike="noStrike">
              <a:solidFill>
                <a:srgbClr val="c1eeff"/>
              </a:solidFill>
              <a:latin typeface="Consolas"/>
            </a:endParaRPr>
          </a:p>
        </p:txBody>
      </p:sp>
      <p:sp>
        <p:nvSpPr>
          <p:cNvPr id="389" name=""/>
          <p:cNvSpPr txBox="1"/>
          <p:nvPr/>
        </p:nvSpPr>
        <p:spPr>
          <a:xfrm>
            <a:off x="914400" y="1784520"/>
            <a:ext cx="7772400" cy="457200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Kristen ITC"/>
              </a:rPr>
              <a:t>Mass:</a:t>
            </a:r>
            <a:r>
              <a:rPr b="0" lang="en-US" sz="2800" spc="-1" strike="noStrike">
                <a:solidFill>
                  <a:srgbClr val="ffffff"/>
                </a:solidFill>
                <a:latin typeface="Kristen ITC"/>
              </a:rPr>
              <a:t> </a:t>
            </a:r>
            <a:r>
              <a:rPr b="1" lang="en-US" sz="2800" spc="-1" strike="noStrike">
                <a:solidFill>
                  <a:srgbClr val="ffffff"/>
                </a:solidFill>
                <a:latin typeface="Kristen ITC"/>
              </a:rPr>
              <a:t>5,973,700,000,000,000,000,000,</a:t>
            </a:r>
            <a:br>
              <a:rPr sz="2800"/>
            </a:br>
            <a:r>
              <a:rPr b="1" lang="en-US" sz="2800" spc="-1" strike="noStrike">
                <a:solidFill>
                  <a:srgbClr val="ffffff"/>
                </a:solidFill>
                <a:latin typeface="Kristen ITC"/>
              </a:rPr>
              <a:t>000 kg</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Kristen ITC"/>
              </a:rPr>
              <a:t>Volume: </a:t>
            </a:r>
            <a:r>
              <a:rPr b="0" lang="en-US" sz="2800" spc="-1" strike="noStrike">
                <a:solidFill>
                  <a:srgbClr val="ffffff"/>
                </a:solidFill>
                <a:latin typeface="Kristen ITC"/>
              </a:rPr>
              <a:t>1,097,509,500,000,000,000,000 cubic meters. </a:t>
            </a: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Gravity: 9.8</a:t>
            </a:r>
            <a:r>
              <a:rPr b="0" lang="en-US" sz="2400" spc="-1" strike="noStrike">
                <a:solidFill>
                  <a:srgbClr val="ffffff"/>
                </a:solidFill>
                <a:latin typeface="Kristen ITC"/>
              </a:rPr>
              <a:t>Kg</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 </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Mean Density:</a:t>
            </a:r>
            <a:r>
              <a:rPr b="0" lang="en-US" sz="2400" spc="-1" strike="noStrike">
                <a:solidFill>
                  <a:srgbClr val="ffffff"/>
                </a:solidFill>
                <a:latin typeface="Kristen ITC"/>
              </a:rPr>
              <a:t> </a:t>
            </a:r>
            <a:r>
              <a:rPr b="0" lang="pl-PL" sz="2400" spc="-1" strike="noStrike">
                <a:solidFill>
                  <a:srgbClr val="ffffff"/>
                </a:solidFill>
                <a:latin typeface="Kristen ITC"/>
              </a:rPr>
              <a:t>5.515 g/cm</a:t>
            </a:r>
            <a:r>
              <a:rPr b="0" lang="pl-PL" sz="2400" spc="-1" strike="noStrike" baseline="30000">
                <a:solidFill>
                  <a:srgbClr val="ffffff"/>
                </a:solidFill>
                <a:latin typeface="Kristen ITC"/>
              </a:rPr>
              <a:t>3</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Kristen ITC"/>
              </a:rPr>
              <a:t>Composition and Atmosphere</a:t>
            </a:r>
            <a:endParaRPr b="0" lang="en-US" sz="36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inner core is made of a solid metal core made up of nickel and iron (1200 km diameter)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Kristen ITC"/>
              </a:rPr>
              <a:t>Major Gases:   Nitrogen and Oxygen.</a:t>
            </a:r>
            <a:endParaRPr b="0" lang="en-US" sz="2000" spc="-1" strike="noStrike">
              <a:solidFill>
                <a:srgbClr val="ffffff"/>
              </a:solidFill>
              <a:latin typeface="Corbel"/>
            </a:endParaRPr>
          </a:p>
        </p:txBody>
      </p:sp>
      <p:pic>
        <p:nvPicPr>
          <p:cNvPr id="392" name="Picture 5" descr="Earth's Crust"/>
          <p:cNvPicPr/>
          <p:nvPr/>
        </p:nvPicPr>
        <p:blipFill>
          <a:blip r:embed="rId1"/>
          <a:stretch/>
        </p:blipFill>
        <p:spPr>
          <a:xfrm>
            <a:off x="685800" y="3429000"/>
            <a:ext cx="4724280" cy="2432160"/>
          </a:xfrm>
          <a:prstGeom prst="rect">
            <a:avLst/>
          </a:prstGeom>
          <a:ln w="0">
            <a:noFill/>
          </a:ln>
        </p:spPr>
      </p:pic>
      <p:sp>
        <p:nvSpPr>
          <p:cNvPr id="393" name="pole tekstowe 4"/>
          <p:cNvSpPr/>
          <p:nvPr/>
        </p:nvSpPr>
        <p:spPr>
          <a:xfrm>
            <a:off x="5638680" y="3505320"/>
            <a:ext cx="289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this is inside the Earth!</a:t>
            </a:r>
            <a:endParaRPr b="0" lang="en-US" sz="18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urface Conditions</a:t>
            </a:r>
            <a:endParaRPr b="0" lang="en-US" sz="4000" spc="-1" strike="noStrike">
              <a:solidFill>
                <a:srgbClr val="c1eeff"/>
              </a:solidFill>
              <a:latin typeface="Consolas"/>
            </a:endParaRPr>
          </a:p>
        </p:txBody>
      </p:sp>
      <p:sp>
        <p:nvSpPr>
          <p:cNvPr id="395" name=""/>
          <p:cNvSpPr txBox="1"/>
          <p:nvPr/>
        </p:nvSpPr>
        <p:spPr>
          <a:xfrm>
            <a:off x="914400" y="1784520"/>
            <a:ext cx="7772400" cy="457200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he coldest temperature ever recorded in Earth is -</a:t>
            </a:r>
            <a:r>
              <a:rPr b="0" lang="pl-PL" sz="2400" spc="-1" strike="noStrike">
                <a:solidFill>
                  <a:srgbClr val="ffffff"/>
                </a:solidFill>
                <a:latin typeface="Kristen ITC"/>
              </a:rPr>
              <a:t>129°F</a:t>
            </a:r>
            <a:r>
              <a:rPr b="0" lang="en-US" sz="2400" spc="-1" strike="noStrike">
                <a:solidFill>
                  <a:srgbClr val="ffffff"/>
                </a:solidFill>
                <a:latin typeface="Kristen ITC"/>
              </a:rPr>
              <a:t> and the hottest temperature ever recorded in Earth is </a:t>
            </a:r>
            <a:r>
              <a:rPr b="0" lang="pl-PL" sz="2400" spc="-1" strike="noStrike">
                <a:solidFill>
                  <a:srgbClr val="ffffff"/>
                </a:solidFill>
                <a:latin typeface="Kristen ITC"/>
              </a:rPr>
              <a:t>136°F</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4 seasons are existing in Earth. Spring, summer, fall and winter. 4 seasons have different weather. It can be hot, warm, cold and windy</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Earth Appearance</a:t>
            </a:r>
            <a:endParaRPr b="0" lang="en-US" sz="4000" spc="-1" strike="noStrike">
              <a:solidFill>
                <a:srgbClr val="c1eeff"/>
              </a:solidFill>
              <a:latin typeface="Consolas"/>
            </a:endParaRPr>
          </a:p>
        </p:txBody>
      </p:sp>
      <p:sp>
        <p:nvSpPr>
          <p:cNvPr id="397"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bout 70% of the Earth is covered with water, and 97% of that is part of the salty oceans. Only a small part of the Earth's water is freshwater. This includes such things as rivers , lakes, and groundwater. Freshwater is needed for drinking, farming, and washing. There is even water in the form of ice at the poles. Without water, life as we know it would not exist. </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Few rivers flow into the Pacific Ocean since it is bordered by mountains. However, many large rivers flow into the Atlantic Ocean, carrying sediment from the land. This process is one step of the water cycle.</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nauczyciel006n</cp:lastModifiedBy>
  <dcterms:modified xsi:type="dcterms:W3CDTF">2009-02-02T10:45:06Z</dcterms:modified>
  <cp:revision>29</cp:revision>
  <dc:subject/>
  <dc:title>Name of Planet</dc:title>
</cp:coreProperties>
</file>